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E51-B2E0-4DC1-8667-91592CBB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EC9-0648-42FA-933E-21B45DC3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144-AE30-45F4-BD8C-83F3D8A4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39A-A6A0-4ADA-B17D-7AA6C64D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F93-6842-4318-A603-36AA6E4D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370B-8045-43B4-BFC1-42CF9505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BA9-62E2-4B5F-9A7E-3A73C703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BD8-B150-4DAD-A123-4F4572B3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969-9980-410C-B637-5447D2E9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450-D5A6-4B2E-8A85-4FBDD679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999-B167-4417-84B9-8E71FCB0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694-DE04-411D-A9D0-6CC5015A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F392-7E31-4BD1-A739-23F0717CD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 now reca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3640" y="1125000"/>
            <a:ext cx="843588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a post it, jot down a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aluative comment about the creative skil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sed between this AS and A2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187280" y="2124000"/>
            <a:ext cx="3002040" cy="451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5437080" y="2087640"/>
            <a:ext cx="318636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fessionalism on a budg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43588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es your use of digital technology compare to production of real media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16-19 year olds you are not expected to be able to replicate what professional media institutions can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 rot="21115800">
            <a:off x="1077840" y="2808360"/>
            <a:ext cx="2538360" cy="376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Mark's_Poster_(Final_Draft).jpg"/>
          <p:cNvPicPr/>
          <p:nvPr/>
        </p:nvPicPr>
        <p:blipFill>
          <a:blip r:embed="rId2"/>
          <a:stretch/>
        </p:blipFill>
        <p:spPr>
          <a:xfrm rot="958200">
            <a:off x="5101920" y="2955600"/>
            <a:ext cx="25416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ng Media cours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aluative comment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make about his use of digital technology across those 4 production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ember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reation of the produ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Exhib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Mark's_Magazine_(Final_Draft).jpg"/>
          <p:cNvPicPr/>
          <p:nvPr/>
        </p:nvPicPr>
        <p:blipFill>
          <a:blip r:embed="rId1"/>
          <a:stretch/>
        </p:blipFill>
        <p:spPr>
          <a:xfrm>
            <a:off x="4572000" y="2852640"/>
            <a:ext cx="2695680" cy="379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ark's_Poster_(Final_Draft).jpg"/>
          <p:cNvPicPr/>
          <p:nvPr/>
        </p:nvPicPr>
        <p:blipFill>
          <a:blip r:embed="rId2"/>
          <a:stretch/>
        </p:blipFill>
        <p:spPr>
          <a:xfrm>
            <a:off x="250920" y="2997360"/>
            <a:ext cx="2541600" cy="357480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ular Callout 14"/>
          <p:cNvSpPr/>
          <p:nvPr/>
        </p:nvSpPr>
        <p:spPr>
          <a:xfrm>
            <a:off x="4500720" y="189000"/>
            <a:ext cx="2303280" cy="1871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00000"/>
                </a:solidFill>
                <a:latin typeface="Arial"/>
              </a:rPr>
              <a:t>‘</a:t>
            </a:r>
            <a:r>
              <a:rPr b="0" i="1" lang="en-GB" sz="1800" spc="-1" strike="noStrike">
                <a:solidFill>
                  <a:srgbClr val="c00000"/>
                </a:solidFill>
                <a:latin typeface="Arial"/>
              </a:rPr>
              <a:t>I wasn't as comfortable when not using digital technology to plan and sketch out my ideas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ular Callout 12"/>
          <p:cNvSpPr/>
          <p:nvPr/>
        </p:nvSpPr>
        <p:spPr>
          <a:xfrm>
            <a:off x="6659640" y="1484280"/>
            <a:ext cx="2124000" cy="2016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00000"/>
                </a:solidFill>
                <a:latin typeface="Arial"/>
              </a:rPr>
              <a:t>‘</a:t>
            </a:r>
            <a:r>
              <a:rPr b="0" i="1" lang="en-GB" sz="1800" spc="-1" strike="noStrike">
                <a:solidFill>
                  <a:srgbClr val="c00000"/>
                </a:solidFill>
                <a:latin typeface="Arial"/>
              </a:rPr>
              <a:t>Upon reflection my work could have been presented more effectively on the wikipag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ular Callout 15"/>
          <p:cNvSpPr/>
          <p:nvPr/>
        </p:nvSpPr>
        <p:spPr>
          <a:xfrm>
            <a:off x="250920" y="189000"/>
            <a:ext cx="2520720" cy="17272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00000"/>
                </a:solidFill>
                <a:latin typeface="Arial"/>
              </a:rPr>
              <a:t>‘</a:t>
            </a:r>
            <a:r>
              <a:rPr b="0" i="1" lang="en-GB" sz="1800" spc="-1" strike="noStrike">
                <a:solidFill>
                  <a:srgbClr val="c00000"/>
                </a:solidFill>
                <a:latin typeface="Arial"/>
              </a:rPr>
              <a:t>I relied too heavily on the use of Wikipedia in my research which was unsatisfactory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ular Callout 13"/>
          <p:cNvSpPr/>
          <p:nvPr/>
        </p:nvSpPr>
        <p:spPr>
          <a:xfrm>
            <a:off x="2268360" y="1700280"/>
            <a:ext cx="2159280" cy="1800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00000"/>
                </a:solidFill>
                <a:latin typeface="Arial"/>
              </a:rPr>
              <a:t>‘</a:t>
            </a:r>
            <a:r>
              <a:rPr b="0" i="1" lang="en-GB" sz="1800" spc="-1" strike="noStrike">
                <a:solidFill>
                  <a:srgbClr val="c00000"/>
                </a:solidFill>
                <a:latin typeface="Arial"/>
              </a:rPr>
              <a:t>I am reasonably proficient at using Photoshop effects on my magazine front cover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t what have I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d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3348000" y="1628640"/>
            <a:ext cx="352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 haven’t compared his A2 work to his AS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Mark's_Magazine_(Final_Draft).jpg"/>
          <p:cNvPicPr/>
          <p:nvPr/>
        </p:nvPicPr>
        <p:blipFill>
          <a:blip r:embed="rId1"/>
          <a:stretch/>
        </p:blipFill>
        <p:spPr>
          <a:xfrm>
            <a:off x="539640" y="1916280"/>
            <a:ext cx="2849760" cy="4006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mag_2.jpg"/>
          <p:cNvPicPr/>
          <p:nvPr/>
        </p:nvPicPr>
        <p:blipFill>
          <a:blip r:embed="rId2"/>
          <a:stretch/>
        </p:blipFill>
        <p:spPr>
          <a:xfrm>
            <a:off x="6300720" y="2997360"/>
            <a:ext cx="252252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valuating your use of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igit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ired Task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going to work in pairs to evaluate your AS and A2 coursework thus f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up your PowerPoints with your AS and A2 work on and spend a few minutes making notes in your bookl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then going to present your evaluations to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temp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Compare your AS and A2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Use your 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booklets to prompt you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. Do not type anything onto the Power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Refer to the 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4 areas of coursework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Use 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evaluative terms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and phrases 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8764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 Fin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468360" y="1413000"/>
            <a:ext cx="84247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the following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</a:rPr>
              <a:t>‘</a:t>
            </a:r>
            <a:r>
              <a:rPr b="1" i="1" lang="en-GB" sz="2800" spc="-1" strike="noStrike">
                <a:solidFill>
                  <a:srgbClr val="c00000"/>
                </a:solidFill>
                <a:latin typeface="Arial"/>
              </a:rPr>
              <a:t>How has your use of digital technology in the coursework productions progressed from AS through to A2 Media Studies thus far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er Ass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the mark scheme to give your partner’s answer a mark out of 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light digital technology and evaluative com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ive it a WWW and an EBI and sign i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1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5494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Arial"/>
              </a:rPr>
              <a:t>Homework(s)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wer the same set question in 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30 minutes t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mark scheme to assess exemplar essay on digital t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member AS music industry…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the music industry topic many key terms and theories were discussed with regards to digital technology…lets have a quick t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on- digital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’s easy to assume that in 2011 all research, construction and post-production work is produced solely with digital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what non-digital technology did you use during AS and A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copies of magaz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m and film trailers on TV/cinema/DV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ncil sketching and storyboar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y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fessionalism on a budg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41200"/>
            <a:ext cx="8435880" cy="57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es your use of digital technology compare to production of real media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16-19 year olds you are not expected to be able to replicate what professional media institutions can do…or ha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x’s idea of the means of production being used by the dominant classes to keep the masses oppressed is increasingly becoming a redundant theory.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cheap, efficient technology is accessible to most of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 we are able to produc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at could pass for professional, particularly pri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 do we think this is the same case for the A2 trail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igital tech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meant by “Convergenc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meant by ‘digital zeitgeist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 technophile and a technopho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meant by prolif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compression technology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‘means of production’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web 2.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‘user generated content’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aves and have not'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aspect of digital technology you might need to discuss and evaluate –without moaning – is the quality of technology you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sions of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y of cameras (pixel ratios, SLR or compact, HD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2.0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notes on question 5 and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has your use of digital hardware technology developed between AS and A2 Med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rter: What digital techn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Arial"/>
              </a:rPr>
              <a:t>Watch an example of an A2 film trailer from las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ist the technolog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the students would have used to construct it on the large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Lesson objective: </a:t>
            </a:r>
            <a:r>
              <a:rPr b="0" i="1" lang="en-GB" sz="3600" spc="-1" strike="noStrike">
                <a:solidFill>
                  <a:srgbClr val="ff0000"/>
                </a:solidFill>
                <a:latin typeface="Arial"/>
              </a:rPr>
              <a:t>to evaluate how our use of </a:t>
            </a:r>
            <a:r>
              <a:rPr b="1" i="1" lang="en-GB" sz="3600" spc="-1" strike="noStrike">
                <a:solidFill>
                  <a:srgbClr val="ff0000"/>
                </a:solidFill>
                <a:latin typeface="Arial"/>
              </a:rPr>
              <a:t>digital technology </a:t>
            </a:r>
            <a:r>
              <a:rPr b="0" i="1" lang="en-GB" sz="3600" spc="-1" strike="noStrike">
                <a:solidFill>
                  <a:srgbClr val="ff0000"/>
                </a:solidFill>
                <a:latin typeface="Arial"/>
              </a:rPr>
              <a:t>in the production of coursework has developed from AS to A2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digital tech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9332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ow technically skilled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te yourself out of 10 and explain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we say abou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eativity and technical proficienc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r skills developed and can you write about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What do the exam board s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8920" y="1484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vel 4 (21-25 mark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re is a clear sense of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gressio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and of how examples have been selected, and a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nge of articulate reflection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on technical skills. There is a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uent evaluation of progress made over tim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ndidates offer a broad range of specific, relevant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ear examples of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chnolog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in relation to creative decisions and outco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use of media terminology and research, planning and production terms is excell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2060"/>
                </a:solidFill>
                <a:latin typeface="Arial"/>
              </a:rPr>
              <a:t>Forms of digital technolog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3 mains forms of digital technolo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ardware: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ill photography and DV cam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ph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u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oftware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otosh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miere and After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eb 2.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eng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generated and social media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and fan s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ail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w has digital technology benefited media makers 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transformed the way we produce media across the 4 stages of p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sear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lan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reated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iewed/Exhib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often make the mistake of focusing only on ho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technology can be used in the creation of a product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ns of productio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x’s idea of the means of production being used by the dominant classes to keep the masses oppressed is increasingly becoming a redundant theory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 cheap, efficient technology is accessible to most of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 we are able to produc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me wor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at could pass for professional, particularly prin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do we think this is the same case for the A2 trai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2:50:24Z</dcterms:created>
  <dc:creator>#</dc:creator>
  <dc:description/>
  <dc:language>en-US</dc:language>
  <cp:lastModifiedBy>Permaul, Pravin</cp:lastModifiedBy>
  <cp:lastPrinted>2012-01-23T13:08:23Z</cp:lastPrinted>
  <dcterms:modified xsi:type="dcterms:W3CDTF">2013-02-08T10:27:41Z</dcterms:modified>
  <cp:revision>36</cp:revision>
  <dc:subject/>
  <dc:title>Evaluation of Digital Technology</dc:title>
</cp:coreProperties>
</file>